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BC3-E1DB-44C2-944F-7778303F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9AD-E962-4A01-A55D-BF2DFD2E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AB5-C9EB-471B-BEBC-5D6439CD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E23-3558-489E-BD48-9C44B79B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572-6179-4E12-88C0-CB70E409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FDA-7EC7-49A9-B1BB-E278E138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CF7-5EAB-4A72-AAB5-984CDB42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7F2-8DC3-4855-AF17-B5757573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907-8EB0-4F07-B1EE-EEBF8D94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B59-F773-43AA-A3A2-62673C39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DA5-228B-4D23-99FE-EFAEFDF9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77B-C1CD-478C-B47C-0321DF54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DC76-A98D-411E-9066-5866ECF1F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62160" y="2924280"/>
            <a:ext cx="3997080" cy="2422440"/>
            <a:chOff x="1262160" y="2924280"/>
            <a:chExt cx="3997080" cy="2422440"/>
          </a:xfrm>
        </p:grpSpPr>
        <p:sp>
          <p:nvSpPr>
            <p:cNvPr id="42" name=""/>
            <p:cNvSpPr/>
            <p:nvPr/>
          </p:nvSpPr>
          <p:spPr>
            <a:xfrm>
              <a:off x="1262160" y="2924280"/>
              <a:ext cx="3997080" cy="242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838160" y="4206960"/>
              <a:ext cx="774720" cy="2379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" name=""/>
            <p:cNvCxnSpPr>
              <a:stCxn id="43" idx="3"/>
              <a:endCxn id="45" idx="1"/>
            </p:cNvCxnSpPr>
            <p:nvPr/>
          </p:nvCxnSpPr>
          <p:spPr>
            <a:xfrm>
              <a:off x="2612880" y="4325760"/>
              <a:ext cx="273600" cy="11520"/>
            </a:xfrm>
            <a:prstGeom prst="curvedConnector3">
              <a:avLst>
                <a:gd name="adj1" fmla="val 28458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46" name=""/>
            <p:cNvSpPr/>
            <p:nvPr/>
          </p:nvSpPr>
          <p:spPr>
            <a:xfrm>
              <a:off x="2467080" y="3703680"/>
              <a:ext cx="689040" cy="2048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90960" y="3468600"/>
              <a:ext cx="909360" cy="200520"/>
              <a:chOff x="3990960" y="3468600"/>
              <a:chExt cx="909360" cy="200520"/>
            </a:xfrm>
          </p:grpSpPr>
          <p:sp>
            <p:nvSpPr>
              <p:cNvPr id="48" name=""/>
              <p:cNvSpPr/>
              <p:nvPr/>
            </p:nvSpPr>
            <p:spPr>
              <a:xfrm>
                <a:off x="3990960" y="3492360"/>
                <a:ext cx="27936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24240" y="346860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cul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3995640" y="3798720"/>
              <a:ext cx="911160" cy="200520"/>
              <a:chOff x="3995640" y="3798720"/>
              <a:chExt cx="911160" cy="200520"/>
            </a:xfrm>
          </p:grpSpPr>
          <p:sp>
            <p:nvSpPr>
              <p:cNvPr id="51" name=""/>
              <p:cNvSpPr/>
              <p:nvPr/>
            </p:nvSpPr>
            <p:spPr>
              <a:xfrm>
                <a:off x="3995640" y="3821040"/>
                <a:ext cx="277560" cy="1540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230360" y="379872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certaint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995640" y="4130640"/>
              <a:ext cx="847800" cy="200520"/>
              <a:chOff x="3995640" y="4130640"/>
              <a:chExt cx="847800" cy="200520"/>
            </a:xfrm>
          </p:grpSpPr>
          <p:sp>
            <p:nvSpPr>
              <p:cNvPr id="54" name=""/>
              <p:cNvSpPr/>
              <p:nvPr/>
            </p:nvSpPr>
            <p:spPr>
              <a:xfrm>
                <a:off x="3995640" y="4151160"/>
                <a:ext cx="265320" cy="156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dbdb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167360" y="413064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995640" y="4460760"/>
              <a:ext cx="825480" cy="200520"/>
              <a:chOff x="3995640" y="4460760"/>
              <a:chExt cx="825480" cy="200520"/>
            </a:xfrm>
          </p:grpSpPr>
          <p:sp>
            <p:nvSpPr>
              <p:cNvPr id="57" name=""/>
              <p:cNvSpPr/>
              <p:nvPr/>
            </p:nvSpPr>
            <p:spPr>
              <a:xfrm>
                <a:off x="3995640" y="4484520"/>
                <a:ext cx="26820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144680" y="446076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riter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9" name=""/>
            <p:cNvCxnSpPr>
              <a:stCxn id="46" idx="4"/>
              <a:endCxn id="45" idx="0"/>
            </p:cNvCxnSpPr>
            <p:nvPr/>
          </p:nvCxnSpPr>
          <p:spPr>
            <a:xfrm flipH="1" rot="16200000">
              <a:off x="2775600" y="3944520"/>
              <a:ext cx="321120" cy="248760"/>
            </a:xfrm>
            <a:prstGeom prst="curvedConnector3">
              <a:avLst>
                <a:gd name="adj1" fmla="val 27946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45" name=""/>
            <p:cNvSpPr/>
            <p:nvPr/>
          </p:nvSpPr>
          <p:spPr>
            <a:xfrm>
              <a:off x="2886120" y="4229280"/>
              <a:ext cx="347760" cy="21564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08280" y="4240080"/>
              <a:ext cx="844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ee Cash Flo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92200" y="3718080"/>
              <a:ext cx="819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41480" y="4246560"/>
              <a:ext cx="412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1727280" y="1297080"/>
            <a:ext cx="5043240" cy="3635280"/>
            <a:chOff x="1727280" y="1297080"/>
            <a:chExt cx="5043240" cy="3635280"/>
          </a:xfrm>
        </p:grpSpPr>
        <p:sp>
          <p:nvSpPr>
            <p:cNvPr id="583" name=""/>
            <p:cNvSpPr/>
            <p:nvPr/>
          </p:nvSpPr>
          <p:spPr>
            <a:xfrm>
              <a:off x="1727280" y="1297080"/>
              <a:ext cx="5043240" cy="36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01840" y="3594240"/>
              <a:ext cx="596880" cy="2268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5" name=""/>
            <p:cNvCxnSpPr>
              <a:stCxn id="586" idx="2"/>
              <a:endCxn id="587" idx="0"/>
            </p:cNvCxnSpPr>
            <p:nvPr/>
          </p:nvCxnSpPr>
          <p:spPr>
            <a:xfrm flipH="1">
              <a:off x="4947840" y="2604960"/>
              <a:ext cx="86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88" name=""/>
            <p:cNvCxnSpPr>
              <a:stCxn id="584" idx="0"/>
              <a:endCxn id="589" idx="1"/>
            </p:cNvCxnSpPr>
            <p:nvPr/>
          </p:nvCxnSpPr>
          <p:spPr>
            <a:xfrm flipV="1" rot="16200000">
              <a:off x="3197160" y="3291120"/>
              <a:ext cx="553320" cy="52920"/>
            </a:xfrm>
            <a:prstGeom prst="curvedConnector5">
              <a:avLst>
                <a:gd name="adj1" fmla="val 41080"/>
                <a:gd name="adj2" fmla="val 267808"/>
                <a:gd name="adj3" fmla="val 4108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90" name=""/>
            <p:cNvCxnSpPr>
              <a:stCxn id="586" idx="1"/>
              <a:endCxn id="591" idx="0"/>
            </p:cNvCxnSpPr>
            <p:nvPr/>
          </p:nvCxnSpPr>
          <p:spPr>
            <a:xfrm flipV="1" rot="10800000">
              <a:off x="4377600" y="2505600"/>
              <a:ext cx="288000" cy="7470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92" name=""/>
            <p:cNvCxnSpPr>
              <a:stCxn id="593" idx="2"/>
              <a:endCxn id="586" idx="3"/>
            </p:cNvCxnSpPr>
            <p:nvPr/>
          </p:nvCxnSpPr>
          <p:spPr>
            <a:xfrm rot="5400000">
              <a:off x="5297040" y="2241360"/>
              <a:ext cx="214920" cy="3168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94" name=""/>
            <p:cNvCxnSpPr>
              <a:stCxn id="595" idx="4"/>
              <a:endCxn id="587" idx="3"/>
            </p:cNvCxnSpPr>
            <p:nvPr/>
          </p:nvCxnSpPr>
          <p:spPr>
            <a:xfrm rot="5400000">
              <a:off x="5319000" y="2774520"/>
              <a:ext cx="106920" cy="453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96" name=""/>
            <p:cNvCxnSpPr>
              <a:stCxn id="597" idx="2"/>
              <a:endCxn id="598" idx="1"/>
            </p:cNvCxnSpPr>
            <p:nvPr/>
          </p:nvCxnSpPr>
          <p:spPr>
            <a:xfrm flipH="1" rot="16200000">
              <a:off x="3616920" y="3355560"/>
              <a:ext cx="757800" cy="345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99" name=""/>
            <p:cNvCxnSpPr>
              <a:stCxn id="589" idx="3"/>
              <a:endCxn id="587" idx="1"/>
            </p:cNvCxnSpPr>
            <p:nvPr/>
          </p:nvCxnSpPr>
          <p:spPr>
            <a:xfrm>
              <a:off x="4200120" y="3041280"/>
              <a:ext cx="548280" cy="13320"/>
            </a:xfrm>
            <a:prstGeom prst="curvedConnector5">
              <a:avLst>
                <a:gd name="adj1" fmla="val 49802"/>
                <a:gd name="adj2" fmla="val 50000"/>
                <a:gd name="adj3" fmla="val 49802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00" name=""/>
            <p:cNvCxnSpPr>
              <a:stCxn id="598" idx="3"/>
              <a:endCxn id="601" idx="1"/>
            </p:cNvCxnSpPr>
            <p:nvPr/>
          </p:nvCxnSpPr>
          <p:spPr>
            <a:xfrm flipV="1">
              <a:off x="4843080" y="3777480"/>
              <a:ext cx="306720" cy="129240"/>
            </a:xfrm>
            <a:prstGeom prst="curvedConnector5">
              <a:avLst>
                <a:gd name="adj1" fmla="val 49706"/>
                <a:gd name="adj2" fmla="val 50000"/>
                <a:gd name="adj3" fmla="val 49706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602" name=""/>
            <p:cNvSpPr/>
            <p:nvPr/>
          </p:nvSpPr>
          <p:spPr>
            <a:xfrm>
              <a:off x="5365800" y="2027160"/>
              <a:ext cx="392040" cy="21744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56080" y="1987560"/>
              <a:ext cx="41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il Pri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43240" y="3608280"/>
              <a:ext cx="542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3448080" y="2922480"/>
              <a:ext cx="752400" cy="226800"/>
              <a:chOff x="3448080" y="2922480"/>
              <a:chExt cx="752400" cy="226800"/>
            </a:xfrm>
          </p:grpSpPr>
          <p:sp>
            <p:nvSpPr>
              <p:cNvPr id="597" name=""/>
              <p:cNvSpPr/>
              <p:nvPr/>
            </p:nvSpPr>
            <p:spPr>
              <a:xfrm>
                <a:off x="3477960" y="2922480"/>
                <a:ext cx="692280" cy="22680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48080" y="2941200"/>
                <a:ext cx="752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preci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4748040" y="2935440"/>
              <a:ext cx="398160" cy="226800"/>
              <a:chOff x="4748040" y="2935440"/>
              <a:chExt cx="398160" cy="226800"/>
            </a:xfrm>
          </p:grpSpPr>
          <p:sp>
            <p:nvSpPr>
              <p:cNvPr id="606" name=""/>
              <p:cNvSpPr/>
              <p:nvPr/>
            </p:nvSpPr>
            <p:spPr>
              <a:xfrm>
                <a:off x="4763880" y="2935440"/>
                <a:ext cx="365040" cy="22680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748040" y="2954520"/>
                <a:ext cx="398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a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4162320" y="3232080"/>
              <a:ext cx="447840" cy="2383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24160" y="3252960"/>
              <a:ext cx="506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co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49800" y="3659040"/>
              <a:ext cx="774720" cy="2383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30720" y="3683160"/>
              <a:ext cx="844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ee Cash Flo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9" name=""/>
            <p:cNvCxnSpPr>
              <a:stCxn id="584" idx="2"/>
              <a:endCxn id="601" idx="2"/>
            </p:cNvCxnSpPr>
            <p:nvPr/>
          </p:nvCxnSpPr>
          <p:spPr>
            <a:xfrm flipH="1" rot="16200000">
              <a:off x="4480560" y="2840400"/>
              <a:ext cx="76680" cy="2037600"/>
            </a:xfrm>
            <a:prstGeom prst="curvedConnector5">
              <a:avLst>
                <a:gd name="adj1" fmla="val 590094"/>
                <a:gd name="adj2" fmla="val 49991"/>
                <a:gd name="adj3" fmla="val 590094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10" name=""/>
            <p:cNvCxnSpPr>
              <a:stCxn id="601" idx="3"/>
              <a:endCxn id="611" idx="1"/>
            </p:cNvCxnSpPr>
            <p:nvPr/>
          </p:nvCxnSpPr>
          <p:spPr>
            <a:xfrm>
              <a:off x="5924160" y="3777840"/>
              <a:ext cx="273960" cy="118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612" name=""/>
            <p:cNvSpPr/>
            <p:nvPr/>
          </p:nvSpPr>
          <p:spPr>
            <a:xfrm>
              <a:off x="4195800" y="3787920"/>
              <a:ext cx="619200" cy="233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68800" y="3807000"/>
              <a:ext cx="674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3" name=""/>
            <p:cNvCxnSpPr>
              <a:stCxn id="607" idx="2"/>
              <a:endCxn id="612" idx="0"/>
            </p:cNvCxnSpPr>
            <p:nvPr/>
          </p:nvCxnSpPr>
          <p:spPr>
            <a:xfrm flipH="1" rot="16200000">
              <a:off x="4286160" y="3569400"/>
              <a:ext cx="317880" cy="1198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14" name=""/>
            <p:cNvCxnSpPr>
              <a:stCxn id="606" idx="2"/>
              <a:endCxn id="591" idx="3"/>
            </p:cNvCxnSpPr>
            <p:nvPr/>
          </p:nvCxnSpPr>
          <p:spPr>
            <a:xfrm rot="5400000">
              <a:off x="4692960" y="3099240"/>
              <a:ext cx="191160" cy="3168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615" name=""/>
            <p:cNvSpPr/>
            <p:nvPr/>
          </p:nvSpPr>
          <p:spPr>
            <a:xfrm>
              <a:off x="4645080" y="2387520"/>
              <a:ext cx="611280" cy="2253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65600" y="2406600"/>
              <a:ext cx="581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376960" y="2743200"/>
              <a:ext cx="442800" cy="2048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43480" y="2747880"/>
              <a:ext cx="528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ax r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436920" y="2443320"/>
              <a:ext cx="676440" cy="21564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11360" y="2403360"/>
              <a:ext cx="71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perating Cos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9" name=""/>
            <p:cNvCxnSpPr>
              <a:stCxn id="618" idx="3"/>
              <a:endCxn id="607" idx="0"/>
            </p:cNvCxnSpPr>
            <p:nvPr/>
          </p:nvCxnSpPr>
          <p:spPr>
            <a:xfrm>
              <a:off x="4124160" y="2556000"/>
              <a:ext cx="262800" cy="6768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620" name=""/>
            <p:cNvSpPr/>
            <p:nvPr/>
          </p:nvSpPr>
          <p:spPr>
            <a:xfrm>
              <a:off x="5778360" y="3156120"/>
              <a:ext cx="689040" cy="204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15000" y="3160800"/>
              <a:ext cx="819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425760" y="1528920"/>
              <a:ext cx="523800" cy="23148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98760" y="149400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covery R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4" name=""/>
            <p:cNvCxnSpPr>
              <a:stCxn id="623" idx="3"/>
              <a:endCxn id="625" idx="0"/>
            </p:cNvCxnSpPr>
            <p:nvPr/>
          </p:nvCxnSpPr>
          <p:spPr>
            <a:xfrm>
              <a:off x="3974760" y="1645920"/>
              <a:ext cx="561240" cy="2358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626" name=""/>
            <p:cNvSpPr/>
            <p:nvPr/>
          </p:nvSpPr>
          <p:spPr>
            <a:xfrm>
              <a:off x="4235400" y="1900080"/>
              <a:ext cx="611280" cy="266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226040" y="1880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il Produc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7" name=""/>
            <p:cNvCxnSpPr>
              <a:stCxn id="625" idx="2"/>
              <a:endCxn id="615" idx="0"/>
            </p:cNvCxnSpPr>
            <p:nvPr/>
          </p:nvCxnSpPr>
          <p:spPr>
            <a:xfrm flipH="1" rot="16200000">
              <a:off x="4641840" y="2078640"/>
              <a:ext cx="202320" cy="416520"/>
            </a:xfrm>
            <a:prstGeom prst="curvedConnector5">
              <a:avLst>
                <a:gd name="adj1" fmla="val 49554"/>
                <a:gd name="adj2" fmla="val 50000"/>
                <a:gd name="adj3" fmla="val 49554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628" name=""/>
            <p:cNvGrpSpPr/>
            <p:nvPr/>
          </p:nvGrpSpPr>
          <p:grpSpPr>
            <a:xfrm>
              <a:off x="2741760" y="4519440"/>
              <a:ext cx="909360" cy="200520"/>
              <a:chOff x="2741760" y="4519440"/>
              <a:chExt cx="909360" cy="200520"/>
            </a:xfrm>
          </p:grpSpPr>
          <p:sp>
            <p:nvSpPr>
              <p:cNvPr id="629" name=""/>
              <p:cNvSpPr/>
              <p:nvPr/>
            </p:nvSpPr>
            <p:spPr>
              <a:xfrm>
                <a:off x="2741760" y="4543200"/>
                <a:ext cx="27936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975040" y="451944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cul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613320" y="4519440"/>
              <a:ext cx="911160" cy="200520"/>
              <a:chOff x="3613320" y="4519440"/>
              <a:chExt cx="911160" cy="200520"/>
            </a:xfrm>
          </p:grpSpPr>
          <p:sp>
            <p:nvSpPr>
              <p:cNvPr id="632" name=""/>
              <p:cNvSpPr/>
              <p:nvPr/>
            </p:nvSpPr>
            <p:spPr>
              <a:xfrm>
                <a:off x="3613320" y="4541760"/>
                <a:ext cx="277560" cy="1540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848040" y="451944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certaint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484520" y="4519440"/>
              <a:ext cx="847800" cy="200520"/>
              <a:chOff x="4484520" y="4519440"/>
              <a:chExt cx="847800" cy="200520"/>
            </a:xfrm>
          </p:grpSpPr>
          <p:sp>
            <p:nvSpPr>
              <p:cNvPr id="635" name=""/>
              <p:cNvSpPr/>
              <p:nvPr/>
            </p:nvSpPr>
            <p:spPr>
              <a:xfrm>
                <a:off x="4484520" y="4540320"/>
                <a:ext cx="265320" cy="1569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dbdb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656240" y="451944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5294160" y="4529160"/>
              <a:ext cx="825480" cy="200520"/>
              <a:chOff x="5294160" y="4529160"/>
              <a:chExt cx="825480" cy="200520"/>
            </a:xfrm>
          </p:grpSpPr>
          <p:sp>
            <p:nvSpPr>
              <p:cNvPr id="638" name=""/>
              <p:cNvSpPr/>
              <p:nvPr/>
            </p:nvSpPr>
            <p:spPr>
              <a:xfrm>
                <a:off x="5294160" y="4552920"/>
                <a:ext cx="26820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443200" y="452916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riter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0" name=""/>
            <p:cNvCxnSpPr>
              <a:stCxn id="620" idx="4"/>
              <a:endCxn id="611" idx="0"/>
            </p:cNvCxnSpPr>
            <p:nvPr/>
          </p:nvCxnSpPr>
          <p:spPr>
            <a:xfrm flipH="1" rot="16200000">
              <a:off x="6086160" y="3395880"/>
              <a:ext cx="321480" cy="25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611" name=""/>
            <p:cNvSpPr/>
            <p:nvPr/>
          </p:nvSpPr>
          <p:spPr>
            <a:xfrm>
              <a:off x="6197760" y="3681360"/>
              <a:ext cx="347400" cy="21600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64280" y="3689280"/>
              <a:ext cx="41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59000" y="1967040"/>
              <a:ext cx="524160" cy="23148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41720" y="1989000"/>
              <a:ext cx="57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serv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4" name=""/>
            <p:cNvCxnSpPr>
              <a:stCxn id="643" idx="3"/>
              <a:endCxn id="626" idx="1"/>
            </p:cNvCxnSpPr>
            <p:nvPr/>
          </p:nvCxnSpPr>
          <p:spPr>
            <a:xfrm flipV="1">
              <a:off x="3717720" y="2033280"/>
              <a:ext cx="518040" cy="56160"/>
            </a:xfrm>
            <a:prstGeom prst="curvedConnector5">
              <a:avLst>
                <a:gd name="adj1" fmla="val 50000"/>
                <a:gd name="adj2" fmla="val 49677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645" name=""/>
            <p:cNvGrpSpPr/>
            <p:nvPr/>
          </p:nvGrpSpPr>
          <p:grpSpPr>
            <a:xfrm>
              <a:off x="2389320" y="3008160"/>
              <a:ext cx="718920" cy="307080"/>
              <a:chOff x="2389320" y="3008160"/>
              <a:chExt cx="718920" cy="307080"/>
            </a:xfrm>
          </p:grpSpPr>
          <p:sp>
            <p:nvSpPr>
              <p:cNvPr id="646" name=""/>
              <p:cNvSpPr/>
              <p:nvPr/>
            </p:nvSpPr>
            <p:spPr>
              <a:xfrm>
                <a:off x="2425680" y="3043080"/>
                <a:ext cx="666720" cy="23184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389320" y="3008160"/>
                <a:ext cx="71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xploration Well Cost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093760" y="3559320"/>
              <a:ext cx="718920" cy="307080"/>
              <a:chOff x="2093760" y="3559320"/>
              <a:chExt cx="718920" cy="307080"/>
            </a:xfrm>
          </p:grpSpPr>
          <p:sp>
            <p:nvSpPr>
              <p:cNvPr id="649" name=""/>
              <p:cNvSpPr/>
              <p:nvPr/>
            </p:nvSpPr>
            <p:spPr>
              <a:xfrm>
                <a:off x="2130120" y="3594240"/>
                <a:ext cx="666720" cy="23184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093760" y="3559320"/>
                <a:ext cx="71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ppraisal Well Cost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455920" y="4084560"/>
              <a:ext cx="718920" cy="307080"/>
              <a:chOff x="2455920" y="4084560"/>
              <a:chExt cx="718920" cy="307080"/>
            </a:xfrm>
          </p:grpSpPr>
          <p:sp>
            <p:nvSpPr>
              <p:cNvPr id="652" name=""/>
              <p:cNvSpPr/>
              <p:nvPr/>
            </p:nvSpPr>
            <p:spPr>
              <a:xfrm>
                <a:off x="2492280" y="4119480"/>
                <a:ext cx="666720" cy="23184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455920" y="4084560"/>
                <a:ext cx="71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velopment Cost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54" name=""/>
            <p:cNvCxnSpPr>
              <a:stCxn id="647" idx="2"/>
              <a:endCxn id="584" idx="1"/>
            </p:cNvCxnSpPr>
            <p:nvPr/>
          </p:nvCxnSpPr>
          <p:spPr>
            <a:xfrm flipH="1" rot="16200000">
              <a:off x="2778120" y="3284280"/>
              <a:ext cx="396000" cy="452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55" name=""/>
            <p:cNvCxnSpPr>
              <a:stCxn id="649" idx="3"/>
              <a:endCxn id="584" idx="1"/>
            </p:cNvCxnSpPr>
            <p:nvPr/>
          </p:nvCxnSpPr>
          <p:spPr>
            <a:xfrm flipV="1">
              <a:off x="2797200" y="3707640"/>
              <a:ext cx="40536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656" name=""/>
            <p:cNvCxnSpPr>
              <a:stCxn id="653" idx="0"/>
              <a:endCxn id="584" idx="1"/>
            </p:cNvCxnSpPr>
            <p:nvPr/>
          </p:nvCxnSpPr>
          <p:spPr>
            <a:xfrm flipH="1" flipV="1" rot="5400000">
              <a:off x="2820600" y="3702960"/>
              <a:ext cx="376920" cy="386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7" name=""/>
            <p:cNvSpPr/>
            <p:nvPr/>
          </p:nvSpPr>
          <p:spPr>
            <a:xfrm>
              <a:off x="2092320" y="1776240"/>
              <a:ext cx="790560" cy="23184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93760" y="1751040"/>
              <a:ext cx="79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hance of moveable oi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2257560" y="2333520"/>
            <a:ext cx="4419360" cy="2641680"/>
            <a:chOff x="2257560" y="2333520"/>
            <a:chExt cx="4419360" cy="2641680"/>
          </a:xfrm>
        </p:grpSpPr>
        <p:sp>
          <p:nvSpPr>
            <p:cNvPr id="64" name=""/>
            <p:cNvSpPr/>
            <p:nvPr/>
          </p:nvSpPr>
          <p:spPr>
            <a:xfrm>
              <a:off x="2257560" y="2333520"/>
              <a:ext cx="4419360" cy="264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"/>
            <p:cNvCxnSpPr>
              <a:stCxn id="66" idx="3"/>
              <a:endCxn id="67" idx="1"/>
            </p:cNvCxnSpPr>
            <p:nvPr/>
          </p:nvCxnSpPr>
          <p:spPr>
            <a:xfrm flipV="1">
              <a:off x="3250800" y="3387600"/>
              <a:ext cx="321480" cy="1292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68" name=""/>
            <p:cNvSpPr/>
            <p:nvPr/>
          </p:nvSpPr>
          <p:spPr>
            <a:xfrm>
              <a:off x="3030480" y="4119480"/>
              <a:ext cx="601560" cy="27000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05280" y="4119480"/>
              <a:ext cx="65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pital Investm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920" y="3268800"/>
              <a:ext cx="774720" cy="2379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52840" y="3306600"/>
              <a:ext cx="844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ee Cash Flo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" name=""/>
            <p:cNvCxnSpPr>
              <a:stCxn id="68" idx="0"/>
              <a:endCxn id="67" idx="2"/>
            </p:cNvCxnSpPr>
            <p:nvPr/>
          </p:nvCxnSpPr>
          <p:spPr>
            <a:xfrm flipH="1" flipV="1" rot="5400000">
              <a:off x="3339000" y="3499200"/>
              <a:ext cx="613440" cy="627840"/>
            </a:xfrm>
            <a:prstGeom prst="curvedConnector5">
              <a:avLst>
                <a:gd name="adj1" fmla="val 49970"/>
                <a:gd name="adj2" fmla="val 49971"/>
                <a:gd name="adj3" fmla="val 4997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72" name=""/>
            <p:cNvSpPr/>
            <p:nvPr/>
          </p:nvSpPr>
          <p:spPr>
            <a:xfrm>
              <a:off x="2617920" y="3397320"/>
              <a:ext cx="618840" cy="233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76520" y="3416400"/>
              <a:ext cx="674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00480" y="2765520"/>
              <a:ext cx="689040" cy="2048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37120" y="2784600"/>
              <a:ext cx="819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"/>
            <p:cNvCxnSpPr>
              <a:stCxn id="73" idx="4"/>
              <a:endCxn id="76" idx="0"/>
            </p:cNvCxnSpPr>
            <p:nvPr/>
          </p:nvCxnSpPr>
          <p:spPr>
            <a:xfrm flipH="1" rot="16200000">
              <a:off x="4509360" y="3005640"/>
              <a:ext cx="321120" cy="249840"/>
            </a:xfrm>
            <a:prstGeom prst="curvedConnector5">
              <a:avLst>
                <a:gd name="adj1" fmla="val 49943"/>
                <a:gd name="adj2" fmla="val 49927"/>
                <a:gd name="adj3" fmla="val 49943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76" name=""/>
            <p:cNvSpPr/>
            <p:nvPr/>
          </p:nvSpPr>
          <p:spPr>
            <a:xfrm>
              <a:off x="4619520" y="3290760"/>
              <a:ext cx="347760" cy="21600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86400" y="3298680"/>
              <a:ext cx="41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524560" y="3014640"/>
              <a:ext cx="909360" cy="200520"/>
              <a:chOff x="5524560" y="3014640"/>
              <a:chExt cx="909360" cy="200520"/>
            </a:xfrm>
          </p:grpSpPr>
          <p:sp>
            <p:nvSpPr>
              <p:cNvPr id="79" name=""/>
              <p:cNvSpPr/>
              <p:nvPr/>
            </p:nvSpPr>
            <p:spPr>
              <a:xfrm>
                <a:off x="5524560" y="3038400"/>
                <a:ext cx="27936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57840" y="301464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cul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529240" y="3344760"/>
              <a:ext cx="911160" cy="200520"/>
              <a:chOff x="5529240" y="3344760"/>
              <a:chExt cx="911160" cy="200520"/>
            </a:xfrm>
          </p:grpSpPr>
          <p:sp>
            <p:nvSpPr>
              <p:cNvPr id="82" name=""/>
              <p:cNvSpPr/>
              <p:nvPr/>
            </p:nvSpPr>
            <p:spPr>
              <a:xfrm>
                <a:off x="5529240" y="3367080"/>
                <a:ext cx="277560" cy="1540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63960" y="334476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certaint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5529240" y="3676680"/>
              <a:ext cx="847800" cy="200520"/>
              <a:chOff x="5529240" y="3676680"/>
              <a:chExt cx="847800" cy="200520"/>
            </a:xfrm>
          </p:grpSpPr>
          <p:sp>
            <p:nvSpPr>
              <p:cNvPr id="85" name=""/>
              <p:cNvSpPr/>
              <p:nvPr/>
            </p:nvSpPr>
            <p:spPr>
              <a:xfrm>
                <a:off x="5529240" y="3697200"/>
                <a:ext cx="265320" cy="156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dbdb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700960" y="367668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5529240" y="4006800"/>
              <a:ext cx="825480" cy="200520"/>
              <a:chOff x="5529240" y="4006800"/>
              <a:chExt cx="825480" cy="200520"/>
            </a:xfrm>
          </p:grpSpPr>
          <p:sp>
            <p:nvSpPr>
              <p:cNvPr id="88" name=""/>
              <p:cNvSpPr/>
              <p:nvPr/>
            </p:nvSpPr>
            <p:spPr>
              <a:xfrm>
                <a:off x="5529240" y="4030560"/>
                <a:ext cx="26820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678280" y="400680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riter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0" name=""/>
            <p:cNvCxnSpPr>
              <a:endCxn id="77" idx="1"/>
            </p:cNvCxnSpPr>
            <p:nvPr/>
          </p:nvCxnSpPr>
          <p:spPr>
            <a:xfrm>
              <a:off x="4371840" y="3395160"/>
              <a:ext cx="215280" cy="3960"/>
            </a:xfrm>
            <a:prstGeom prst="curvedConnector5">
              <a:avLst>
                <a:gd name="adj1" fmla="val 49581"/>
                <a:gd name="adj2" fmla="val 50000"/>
                <a:gd name="adj3" fmla="val 49581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65480" y="1363680"/>
            <a:ext cx="5043240" cy="363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60760" y="2808360"/>
            <a:ext cx="387360" cy="226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43480" y="2827440"/>
            <a:ext cx="422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pe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 flipH="1">
            <a:off x="5400360" y="2662200"/>
            <a:ext cx="8640" cy="349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7" name=""/>
          <p:cNvCxnSpPr>
            <a:stCxn id="98" idx="0"/>
            <a:endCxn id="99" idx="2"/>
          </p:cNvCxnSpPr>
          <p:nvPr/>
        </p:nvCxnSpPr>
        <p:spPr>
          <a:xfrm flipH="1" flipV="1" rot="5400000">
            <a:off x="3603600" y="3373920"/>
            <a:ext cx="335520" cy="591120"/>
          </a:xfrm>
          <a:prstGeom prst="curvedConnector5">
            <a:avLst>
              <a:gd name="adj1" fmla="val 49731"/>
              <a:gd name="adj2" fmla="val 49969"/>
              <a:gd name="adj3" fmla="val 49731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0" name=""/>
          <p:cNvCxnSpPr>
            <a:stCxn id="95" idx="1"/>
            <a:endCxn id="101" idx="0"/>
          </p:cNvCxnSpPr>
          <p:nvPr/>
        </p:nvCxnSpPr>
        <p:spPr>
          <a:xfrm flipV="1" rot="10800000">
            <a:off x="4906080" y="2562840"/>
            <a:ext cx="212040" cy="851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2" name=""/>
          <p:cNvCxnSpPr>
            <a:stCxn id="92" idx="2"/>
            <a:endCxn id="101" idx="0"/>
          </p:cNvCxnSpPr>
          <p:nvPr/>
        </p:nvCxnSpPr>
        <p:spPr>
          <a:xfrm flipH="1" rot="16200000">
            <a:off x="4590000" y="3098520"/>
            <a:ext cx="380160" cy="253080"/>
          </a:xfrm>
          <a:prstGeom prst="curvedConnector5">
            <a:avLst>
              <a:gd name="adj1" fmla="val 49763"/>
              <a:gd name="adj2" fmla="val 50000"/>
              <a:gd name="adj3" fmla="val 49763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3" name=""/>
          <p:cNvCxnSpPr>
            <a:stCxn id="104" idx="2"/>
            <a:endCxn id="95" idx="3"/>
          </p:cNvCxnSpPr>
          <p:nvPr/>
        </p:nvCxnSpPr>
        <p:spPr>
          <a:xfrm rot="5400000">
            <a:off x="5719680" y="2269080"/>
            <a:ext cx="273960" cy="3164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5" name=""/>
          <p:cNvCxnSpPr>
            <a:stCxn id="106" idx="4"/>
            <a:endCxn id="96" idx="3"/>
          </p:cNvCxnSpPr>
          <p:nvPr/>
        </p:nvCxnSpPr>
        <p:spPr>
          <a:xfrm rot="5400000">
            <a:off x="5771520" y="2831760"/>
            <a:ext cx="106920" cy="4532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07" name=""/>
          <p:cNvCxnSpPr>
            <a:stCxn id="108" idx="6"/>
            <a:endCxn id="109" idx="1"/>
          </p:cNvCxnSpPr>
          <p:nvPr/>
        </p:nvCxnSpPr>
        <p:spPr>
          <a:xfrm>
            <a:off x="4000680" y="2333160"/>
            <a:ext cx="181440" cy="135720"/>
          </a:xfrm>
          <a:prstGeom prst="curvedConnector5">
            <a:avLst>
              <a:gd name="adj1" fmla="val 49900"/>
              <a:gd name="adj2" fmla="val 50000"/>
              <a:gd name="adj3" fmla="val 499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0" name=""/>
          <p:cNvCxnSpPr>
            <a:stCxn id="111" idx="3"/>
            <a:endCxn id="112" idx="1"/>
          </p:cNvCxnSpPr>
          <p:nvPr/>
        </p:nvCxnSpPr>
        <p:spPr>
          <a:xfrm>
            <a:off x="4443480" y="3393720"/>
            <a:ext cx="178200" cy="570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3" name=""/>
          <p:cNvCxnSpPr>
            <a:stCxn id="111" idx="3"/>
            <a:endCxn id="96" idx="1"/>
          </p:cNvCxnSpPr>
          <p:nvPr/>
        </p:nvCxnSpPr>
        <p:spPr>
          <a:xfrm flipV="1">
            <a:off x="4443120" y="3110760"/>
            <a:ext cx="757800" cy="283320"/>
          </a:xfrm>
          <a:prstGeom prst="curvedConnector5">
            <a:avLst>
              <a:gd name="adj1" fmla="val 49857"/>
              <a:gd name="adj2" fmla="val 50000"/>
              <a:gd name="adj3" fmla="val 49857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4" name=""/>
          <p:cNvCxnSpPr>
            <a:stCxn id="112" idx="3"/>
            <a:endCxn id="115" idx="1"/>
          </p:cNvCxnSpPr>
          <p:nvPr/>
        </p:nvCxnSpPr>
        <p:spPr>
          <a:xfrm flipV="1">
            <a:off x="5295600" y="3834720"/>
            <a:ext cx="306720" cy="129240"/>
          </a:xfrm>
          <a:prstGeom prst="curvedConnector5">
            <a:avLst>
              <a:gd name="adj1" fmla="val 49706"/>
              <a:gd name="adj2" fmla="val 50000"/>
              <a:gd name="adj3" fmla="val 49706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16" name=""/>
          <p:cNvSpPr/>
          <p:nvPr/>
        </p:nvSpPr>
        <p:spPr>
          <a:xfrm>
            <a:off x="5818320" y="2084400"/>
            <a:ext cx="392040" cy="21744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08600" y="2092320"/>
            <a:ext cx="412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8" idx="6"/>
            <a:endCxn id="118" idx="1"/>
          </p:cNvCxnSpPr>
          <p:nvPr/>
        </p:nvCxnSpPr>
        <p:spPr>
          <a:xfrm flipV="1">
            <a:off x="4000320" y="2066400"/>
            <a:ext cx="888120" cy="267120"/>
          </a:xfrm>
          <a:prstGeom prst="curvedConnector5">
            <a:avLst>
              <a:gd name="adj1" fmla="val 49878"/>
              <a:gd name="adj2" fmla="val 49932"/>
              <a:gd name="adj3" fmla="val 49878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19" name=""/>
          <p:cNvSpPr/>
          <p:nvPr/>
        </p:nvSpPr>
        <p:spPr>
          <a:xfrm>
            <a:off x="3227400" y="3833640"/>
            <a:ext cx="506520" cy="21600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46480" y="3836880"/>
            <a:ext cx="460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691080" y="3274920"/>
            <a:ext cx="752400" cy="226800"/>
            <a:chOff x="3691080" y="3274920"/>
            <a:chExt cx="752400" cy="226800"/>
          </a:xfrm>
        </p:grpSpPr>
        <p:sp>
          <p:nvSpPr>
            <p:cNvPr id="99" name=""/>
            <p:cNvSpPr/>
            <p:nvPr/>
          </p:nvSpPr>
          <p:spPr>
            <a:xfrm>
              <a:off x="3720960" y="3274920"/>
              <a:ext cx="692280" cy="2268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91080" y="3293640"/>
              <a:ext cx="752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rec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200560" y="2992320"/>
            <a:ext cx="398160" cy="226800"/>
            <a:chOff x="5200560" y="2992320"/>
            <a:chExt cx="398160" cy="226800"/>
          </a:xfrm>
        </p:grpSpPr>
        <p:sp>
          <p:nvSpPr>
            <p:cNvPr id="122" name=""/>
            <p:cNvSpPr/>
            <p:nvPr/>
          </p:nvSpPr>
          <p:spPr>
            <a:xfrm>
              <a:off x="5216400" y="2992320"/>
              <a:ext cx="365040" cy="2268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00560" y="3011400"/>
              <a:ext cx="398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a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691160" y="3394080"/>
            <a:ext cx="447480" cy="237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3414600"/>
            <a:ext cx="506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02320" y="3716280"/>
            <a:ext cx="774720" cy="2383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3240" y="3740040"/>
            <a:ext cx="844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 Cash Flo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9" idx="2"/>
            <a:endCxn id="115" idx="2"/>
          </p:cNvCxnSpPr>
          <p:nvPr/>
        </p:nvCxnSpPr>
        <p:spPr>
          <a:xfrm flipH="1" flipV="1" rot="5400000">
            <a:off x="4686840" y="2747520"/>
            <a:ext cx="95760" cy="2508840"/>
          </a:xfrm>
          <a:prstGeom prst="curvedConnector5">
            <a:avLst>
              <a:gd name="adj1" fmla="val -240000"/>
              <a:gd name="adj2" fmla="val 50000"/>
              <a:gd name="adj3" fmla="val -24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6" name=""/>
          <p:cNvCxnSpPr>
            <a:stCxn id="115" idx="3"/>
            <a:endCxn id="127" idx="1"/>
          </p:cNvCxnSpPr>
          <p:nvPr/>
        </p:nvCxnSpPr>
        <p:spPr>
          <a:xfrm>
            <a:off x="6377040" y="3835080"/>
            <a:ext cx="27324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4648320" y="3844800"/>
            <a:ext cx="618840" cy="23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21320" y="3863880"/>
            <a:ext cx="674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sh Flo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3" idx="2"/>
            <a:endCxn id="128" idx="0"/>
          </p:cNvCxnSpPr>
          <p:nvPr/>
        </p:nvCxnSpPr>
        <p:spPr>
          <a:xfrm flipH="1" rot="16200000">
            <a:off x="4829040" y="3716640"/>
            <a:ext cx="213480" cy="43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0" name=""/>
          <p:cNvCxnSpPr>
            <a:stCxn id="122" idx="2"/>
            <a:endCxn id="101" idx="3"/>
          </p:cNvCxnSpPr>
          <p:nvPr/>
        </p:nvCxnSpPr>
        <p:spPr>
          <a:xfrm rot="5400000">
            <a:off x="5131080" y="3247200"/>
            <a:ext cx="295560" cy="24012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1" name=""/>
          <p:cNvSpPr/>
          <p:nvPr/>
        </p:nvSpPr>
        <p:spPr>
          <a:xfrm>
            <a:off x="5097600" y="2444760"/>
            <a:ext cx="610920" cy="225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18120" y="2463840"/>
            <a:ext cx="5810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29480" y="2800440"/>
            <a:ext cx="442800" cy="2048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bdbdb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280512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ax R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97320" y="1900080"/>
            <a:ext cx="944640" cy="21600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75000" y="1903320"/>
            <a:ext cx="995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ble Unit Cos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70120" y="2738520"/>
            <a:ext cx="676440" cy="21564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54280" y="2746440"/>
            <a:ext cx="71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3"/>
            <a:endCxn id="93" idx="1"/>
          </p:cNvCxnSpPr>
          <p:nvPr/>
        </p:nvCxnSpPr>
        <p:spPr>
          <a:xfrm>
            <a:off x="4267080" y="2846160"/>
            <a:ext cx="177120" cy="81360"/>
          </a:xfrm>
          <a:prstGeom prst="curvedConnector5">
            <a:avLst>
              <a:gd name="adj1" fmla="val 49490"/>
              <a:gd name="adj2" fmla="val 49777"/>
              <a:gd name="adj3" fmla="val 4949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8" name=""/>
          <p:cNvCxnSpPr>
            <a:stCxn id="109" idx="2"/>
            <a:endCxn id="92" idx="0"/>
          </p:cNvCxnSpPr>
          <p:nvPr/>
        </p:nvCxnSpPr>
        <p:spPr>
          <a:xfrm flipH="1" rot="16200000">
            <a:off x="4501440" y="2655000"/>
            <a:ext cx="241920" cy="65520"/>
          </a:xfrm>
          <a:prstGeom prst="curvedConnector5">
            <a:avLst>
              <a:gd name="adj1" fmla="val 49925"/>
              <a:gd name="adj2" fmla="val 49723"/>
              <a:gd name="adj3" fmla="val 49925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9" name=""/>
          <p:cNvSpPr/>
          <p:nvPr/>
        </p:nvSpPr>
        <p:spPr>
          <a:xfrm>
            <a:off x="4208400" y="2335320"/>
            <a:ext cx="746280" cy="225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81400" y="2368440"/>
            <a:ext cx="814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ble Cos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4" idx="3"/>
            <a:endCxn id="139" idx="0"/>
          </p:cNvCxnSpPr>
          <p:nvPr/>
        </p:nvCxnSpPr>
        <p:spPr>
          <a:xfrm>
            <a:off x="4370400" y="2003400"/>
            <a:ext cx="211680" cy="332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1" name=""/>
          <p:cNvSpPr/>
          <p:nvPr/>
        </p:nvSpPr>
        <p:spPr>
          <a:xfrm>
            <a:off x="6230880" y="3213000"/>
            <a:ext cx="689040" cy="2048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bdbdb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67520" y="3218040"/>
            <a:ext cx="819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count R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54400" y="1519200"/>
            <a:ext cx="523800" cy="23184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37120" y="1531800"/>
            <a:ext cx="57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4" idx="3"/>
            <a:endCxn id="118" idx="0"/>
          </p:cNvCxnSpPr>
          <p:nvPr/>
        </p:nvCxnSpPr>
        <p:spPr>
          <a:xfrm>
            <a:off x="4712760" y="1631520"/>
            <a:ext cx="484920" cy="28332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6" name=""/>
          <p:cNvSpPr/>
          <p:nvPr/>
        </p:nvSpPr>
        <p:spPr>
          <a:xfrm>
            <a:off x="5357880" y="1504800"/>
            <a:ext cx="620640" cy="24768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59320" y="1487520"/>
            <a:ext cx="6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duction R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7" idx="1"/>
            <a:endCxn id="118" idx="0"/>
          </p:cNvCxnSpPr>
          <p:nvPr/>
        </p:nvCxnSpPr>
        <p:spPr>
          <a:xfrm flipV="1" rot="10800000">
            <a:off x="5196600" y="1638720"/>
            <a:ext cx="162720" cy="275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9" name=""/>
          <p:cNvSpPr/>
          <p:nvPr/>
        </p:nvSpPr>
        <p:spPr>
          <a:xfrm>
            <a:off x="4897440" y="1919160"/>
            <a:ext cx="611280" cy="2667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88080" y="1913400"/>
            <a:ext cx="6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il Produc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8" idx="2"/>
            <a:endCxn id="131" idx="0"/>
          </p:cNvCxnSpPr>
          <p:nvPr/>
        </p:nvCxnSpPr>
        <p:spPr>
          <a:xfrm flipH="1" rot="16200000">
            <a:off x="5187960" y="2228400"/>
            <a:ext cx="226080" cy="207360"/>
          </a:xfrm>
          <a:prstGeom prst="curvedConnector5">
            <a:avLst>
              <a:gd name="adj1" fmla="val 49920"/>
              <a:gd name="adj2" fmla="val 49913"/>
              <a:gd name="adj3" fmla="val 4992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8" name=""/>
          <p:cNvSpPr/>
          <p:nvPr/>
        </p:nvSpPr>
        <p:spPr>
          <a:xfrm>
            <a:off x="3255840" y="2209680"/>
            <a:ext cx="744840" cy="246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bdbdb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11560" y="2247840"/>
            <a:ext cx="838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il Stor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184560" y="4576680"/>
            <a:ext cx="909360" cy="200520"/>
            <a:chOff x="3184560" y="4576680"/>
            <a:chExt cx="909360" cy="200520"/>
          </a:xfrm>
        </p:grpSpPr>
        <p:sp>
          <p:nvSpPr>
            <p:cNvPr id="153" name=""/>
            <p:cNvSpPr/>
            <p:nvPr/>
          </p:nvSpPr>
          <p:spPr>
            <a:xfrm>
              <a:off x="3184560" y="4600440"/>
              <a:ext cx="27936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17840" y="4576680"/>
              <a:ext cx="676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lcul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056120" y="4576680"/>
            <a:ext cx="911160" cy="200520"/>
            <a:chOff x="4056120" y="4576680"/>
            <a:chExt cx="911160" cy="200520"/>
          </a:xfrm>
        </p:grpSpPr>
        <p:sp>
          <p:nvSpPr>
            <p:cNvPr id="156" name=""/>
            <p:cNvSpPr/>
            <p:nvPr/>
          </p:nvSpPr>
          <p:spPr>
            <a:xfrm>
              <a:off x="4056120" y="4599000"/>
              <a:ext cx="277560" cy="15408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90840" y="4576680"/>
              <a:ext cx="67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certain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927680" y="4576680"/>
            <a:ext cx="847800" cy="200520"/>
            <a:chOff x="4927680" y="4576680"/>
            <a:chExt cx="847800" cy="200520"/>
          </a:xfrm>
        </p:grpSpPr>
        <p:sp>
          <p:nvSpPr>
            <p:cNvPr id="159" name=""/>
            <p:cNvSpPr/>
            <p:nvPr/>
          </p:nvSpPr>
          <p:spPr>
            <a:xfrm>
              <a:off x="4927680" y="4597200"/>
              <a:ext cx="265320" cy="156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99400" y="4576680"/>
              <a:ext cx="676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737320" y="4586400"/>
            <a:ext cx="825480" cy="200520"/>
            <a:chOff x="5737320" y="4586400"/>
            <a:chExt cx="825480" cy="200520"/>
          </a:xfrm>
        </p:grpSpPr>
        <p:sp>
          <p:nvSpPr>
            <p:cNvPr id="162" name=""/>
            <p:cNvSpPr/>
            <p:nvPr/>
          </p:nvSpPr>
          <p:spPr>
            <a:xfrm>
              <a:off x="5737320" y="4610160"/>
              <a:ext cx="268200" cy="152280"/>
            </a:xfrm>
            <a:prstGeom prst="flowChartAlternateProcess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86360" y="4586400"/>
              <a:ext cx="676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riter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41" idx="4"/>
            <a:endCxn id="127" idx="0"/>
          </p:cNvCxnSpPr>
          <p:nvPr/>
        </p:nvCxnSpPr>
        <p:spPr>
          <a:xfrm flipH="1" rot="16200000">
            <a:off x="6539400" y="3453120"/>
            <a:ext cx="321480" cy="249840"/>
          </a:xfrm>
          <a:prstGeom prst="curvedConnector5">
            <a:avLst>
              <a:gd name="adj1" fmla="val 50000"/>
              <a:gd name="adj2" fmla="val 49927"/>
              <a:gd name="adj3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grpSp>
        <p:nvGrpSpPr>
          <p:cNvPr id="165" name=""/>
          <p:cNvGrpSpPr/>
          <p:nvPr/>
        </p:nvGrpSpPr>
        <p:grpSpPr>
          <a:xfrm>
            <a:off x="2575080" y="2533680"/>
            <a:ext cx="688680" cy="307080"/>
            <a:chOff x="2575080" y="2533680"/>
            <a:chExt cx="688680" cy="307080"/>
          </a:xfrm>
        </p:grpSpPr>
        <p:sp>
          <p:nvSpPr>
            <p:cNvPr id="166" name=""/>
            <p:cNvSpPr/>
            <p:nvPr/>
          </p:nvSpPr>
          <p:spPr>
            <a:xfrm>
              <a:off x="2575080" y="2533680"/>
              <a:ext cx="688680" cy="2566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08200" y="2533680"/>
              <a:ext cx="64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umber of well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8" name=""/>
          <p:cNvCxnSpPr>
            <a:stCxn id="166" idx="6"/>
            <a:endCxn id="136" idx="1"/>
          </p:cNvCxnSpPr>
          <p:nvPr/>
        </p:nvCxnSpPr>
        <p:spPr>
          <a:xfrm>
            <a:off x="3263400" y="2662200"/>
            <a:ext cx="291240" cy="185040"/>
          </a:xfrm>
          <a:prstGeom prst="curvedConnector5">
            <a:avLst>
              <a:gd name="adj1" fmla="val 49628"/>
              <a:gd name="adj2" fmla="val 49902"/>
              <a:gd name="adj3" fmla="val 49628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9" name=""/>
          <p:cNvCxnSpPr>
            <a:stCxn id="166" idx="5"/>
            <a:endCxn id="98" idx="0"/>
          </p:cNvCxnSpPr>
          <p:nvPr/>
        </p:nvCxnSpPr>
        <p:spPr>
          <a:xfrm flipH="1" rot="16200000">
            <a:off x="2776320" y="3137400"/>
            <a:ext cx="1085040" cy="315000"/>
          </a:xfrm>
          <a:prstGeom prst="curvedConnector5">
            <a:avLst>
              <a:gd name="adj1" fmla="val 51676"/>
              <a:gd name="adj2" fmla="val 50000"/>
              <a:gd name="adj3" fmla="val 51676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7" name=""/>
          <p:cNvSpPr/>
          <p:nvPr/>
        </p:nvSpPr>
        <p:spPr>
          <a:xfrm>
            <a:off x="6649920" y="3738600"/>
            <a:ext cx="347760" cy="21600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16800" y="3746520"/>
            <a:ext cx="412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08" idx="3"/>
            <a:endCxn id="98" idx="0"/>
          </p:cNvCxnSpPr>
          <p:nvPr/>
        </p:nvCxnSpPr>
        <p:spPr>
          <a:xfrm flipH="1" rot="16200000">
            <a:off x="2712240" y="3072240"/>
            <a:ext cx="1418400" cy="111600"/>
          </a:xfrm>
          <a:prstGeom prst="curvedConnector5">
            <a:avLst>
              <a:gd name="adj1" fmla="val 51282"/>
              <a:gd name="adj2" fmla="val 49838"/>
              <a:gd name="adj3" fmla="val 51282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2" name=""/>
          <p:cNvSpPr/>
          <p:nvPr/>
        </p:nvSpPr>
        <p:spPr>
          <a:xfrm>
            <a:off x="2651040" y="3321000"/>
            <a:ext cx="506520" cy="21600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3760" y="3325680"/>
            <a:ext cx="565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erv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0"/>
            <a:endCxn id="166" idx="4"/>
          </p:cNvCxnSpPr>
          <p:nvPr/>
        </p:nvCxnSpPr>
        <p:spPr>
          <a:xfrm flipH="1" flipV="1" rot="5400000">
            <a:off x="2649960" y="3056400"/>
            <a:ext cx="535680" cy="3600"/>
          </a:xfrm>
          <a:prstGeom prst="curvedConnector5">
            <a:avLst>
              <a:gd name="adj1" fmla="val 49831"/>
              <a:gd name="adj2" fmla="val 44444"/>
              <a:gd name="adj3" fmla="val 49831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75" name=""/>
          <p:cNvCxnSpPr>
            <a:stCxn id="173" idx="2"/>
            <a:endCxn id="119" idx="1"/>
          </p:cNvCxnSpPr>
          <p:nvPr/>
        </p:nvCxnSpPr>
        <p:spPr>
          <a:xfrm flipH="1" rot="16200000">
            <a:off x="2863080" y="3576960"/>
            <a:ext cx="417960" cy="3117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9240" y="490680"/>
            <a:ext cx="5114880" cy="4071960"/>
            <a:chOff x="2019240" y="490680"/>
            <a:chExt cx="5114880" cy="4071960"/>
          </a:xfrm>
        </p:grpSpPr>
        <p:sp>
          <p:nvSpPr>
            <p:cNvPr id="177" name=""/>
            <p:cNvSpPr/>
            <p:nvPr/>
          </p:nvSpPr>
          <p:spPr>
            <a:xfrm>
              <a:off x="2019240" y="490680"/>
              <a:ext cx="5114880" cy="407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58080" y="3174840"/>
              <a:ext cx="433080" cy="293760"/>
            </a:xfrm>
            <a:prstGeom prst="flowChartAlternateProcess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32520" y="3213000"/>
              <a:ext cx="506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81" idx="2"/>
              <a:endCxn id="178" idx="0"/>
            </p:cNvCxnSpPr>
            <p:nvPr/>
          </p:nvCxnSpPr>
          <p:spPr>
            <a:xfrm>
              <a:off x="6107040" y="2894040"/>
              <a:ext cx="169200" cy="28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182" name=""/>
            <p:cNvGrpSpPr/>
            <p:nvPr/>
          </p:nvGrpSpPr>
          <p:grpSpPr>
            <a:xfrm>
              <a:off x="4240080" y="1879560"/>
              <a:ext cx="519120" cy="271440"/>
              <a:chOff x="4240080" y="1879560"/>
              <a:chExt cx="519120" cy="271440"/>
            </a:xfrm>
          </p:grpSpPr>
          <p:sp>
            <p:nvSpPr>
              <p:cNvPr id="183" name=""/>
              <p:cNvSpPr/>
              <p:nvPr/>
            </p:nvSpPr>
            <p:spPr>
              <a:xfrm>
                <a:off x="4260960" y="1879560"/>
                <a:ext cx="475920" cy="2714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240080" y="1901880"/>
                <a:ext cx="519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Ope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87" idx="0"/>
            </p:cNvCxnSpPr>
            <p:nvPr/>
          </p:nvCxnSpPr>
          <p:spPr>
            <a:xfrm flipH="1">
              <a:off x="5465520" y="1641240"/>
              <a:ext cx="5760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88" name=""/>
            <p:cNvCxnSpPr>
              <a:stCxn id="189" idx="0"/>
              <a:endCxn id="190" idx="2"/>
            </p:cNvCxnSpPr>
            <p:nvPr/>
          </p:nvCxnSpPr>
          <p:spPr>
            <a:xfrm flipH="1" flipV="1" rot="5400000">
              <a:off x="3319200" y="2694960"/>
              <a:ext cx="390960" cy="321480"/>
            </a:xfrm>
            <a:prstGeom prst="curvedConnector5">
              <a:avLst>
                <a:gd name="adj1" fmla="val 49953"/>
                <a:gd name="adj2" fmla="val 50000"/>
                <a:gd name="adj3" fmla="val 49953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91" name=""/>
            <p:cNvCxnSpPr>
              <a:stCxn id="186" idx="1"/>
              <a:endCxn id="192" idx="0"/>
            </p:cNvCxnSpPr>
            <p:nvPr/>
          </p:nvCxnSpPr>
          <p:spPr>
            <a:xfrm flipV="1" rot="10800000">
              <a:off x="4923720" y="1526760"/>
              <a:ext cx="191160" cy="10296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93" name=""/>
            <p:cNvCxnSpPr>
              <a:stCxn id="183" idx="2"/>
              <a:endCxn id="192" idx="0"/>
            </p:cNvCxnSpPr>
            <p:nvPr/>
          </p:nvCxnSpPr>
          <p:spPr>
            <a:xfrm flipH="1" rot="16200000">
              <a:off x="4509000" y="2140200"/>
              <a:ext cx="405720" cy="426240"/>
            </a:xfrm>
            <a:prstGeom prst="curvedConnector5">
              <a:avLst>
                <a:gd name="adj1" fmla="val 49733"/>
                <a:gd name="adj2" fmla="val 49957"/>
                <a:gd name="adj3" fmla="val 49733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94" name=""/>
            <p:cNvCxnSpPr>
              <a:stCxn id="195" idx="2"/>
              <a:endCxn id="186" idx="3"/>
            </p:cNvCxnSpPr>
            <p:nvPr/>
          </p:nvCxnSpPr>
          <p:spPr>
            <a:xfrm rot="5400000">
              <a:off x="5936040" y="1191240"/>
              <a:ext cx="330840" cy="342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96" name=""/>
            <p:cNvCxnSpPr>
              <a:stCxn id="197" idx="4"/>
              <a:endCxn id="187" idx="3"/>
            </p:cNvCxnSpPr>
            <p:nvPr/>
          </p:nvCxnSpPr>
          <p:spPr>
            <a:xfrm rot="5400000">
              <a:off x="5896080" y="1869480"/>
              <a:ext cx="234000" cy="606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98" name=""/>
            <p:cNvCxnSpPr>
              <a:stCxn id="199" idx="1"/>
              <a:endCxn id="200" idx="0"/>
            </p:cNvCxnSpPr>
            <p:nvPr/>
          </p:nvCxnSpPr>
          <p:spPr>
            <a:xfrm flipV="1" rot="10800000">
              <a:off x="3855240" y="1066320"/>
              <a:ext cx="354960" cy="450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01" name=""/>
            <p:cNvCxnSpPr>
              <a:stCxn id="202" idx="3"/>
              <a:endCxn id="203" idx="1"/>
            </p:cNvCxnSpPr>
            <p:nvPr/>
          </p:nvCxnSpPr>
          <p:spPr>
            <a:xfrm>
              <a:off x="4138560" y="2525760"/>
              <a:ext cx="426240" cy="581400"/>
            </a:xfrm>
            <a:prstGeom prst="curvedConnector5">
              <a:avLst>
                <a:gd name="adj1" fmla="val 49957"/>
                <a:gd name="adj2" fmla="val 50000"/>
                <a:gd name="adj3" fmla="val 49957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04" name=""/>
            <p:cNvCxnSpPr>
              <a:stCxn id="202" idx="3"/>
              <a:endCxn id="187" idx="1"/>
            </p:cNvCxnSpPr>
            <p:nvPr/>
          </p:nvCxnSpPr>
          <p:spPr>
            <a:xfrm flipV="1">
              <a:off x="4138560" y="2288520"/>
              <a:ext cx="1083240" cy="2372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05" name=""/>
            <p:cNvCxnSpPr>
              <a:stCxn id="206" idx="2"/>
              <a:endCxn id="207" idx="0"/>
            </p:cNvCxnSpPr>
            <p:nvPr/>
          </p:nvCxnSpPr>
          <p:spPr>
            <a:xfrm flipH="1" rot="16200000">
              <a:off x="4966920" y="3260520"/>
              <a:ext cx="197640" cy="178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208" name=""/>
            <p:cNvGrpSpPr/>
            <p:nvPr/>
          </p:nvGrpSpPr>
          <p:grpSpPr>
            <a:xfrm>
              <a:off x="6019920" y="958680"/>
              <a:ext cx="504720" cy="260280"/>
              <a:chOff x="6019920" y="958680"/>
              <a:chExt cx="504720" cy="260280"/>
            </a:xfrm>
          </p:grpSpPr>
          <p:sp>
            <p:nvSpPr>
              <p:cNvPr id="209" name=""/>
              <p:cNvSpPr/>
              <p:nvPr/>
            </p:nvSpPr>
            <p:spPr>
              <a:xfrm>
                <a:off x="6030720" y="958680"/>
                <a:ext cx="479160" cy="2602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019920" y="968040"/>
                <a:ext cx="504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210200" y="942840"/>
              <a:ext cx="640800" cy="260280"/>
              <a:chOff x="4210200" y="942840"/>
              <a:chExt cx="640800" cy="260280"/>
            </a:xfrm>
          </p:grpSpPr>
          <p:sp>
            <p:nvSpPr>
              <p:cNvPr id="211" name=""/>
              <p:cNvSpPr/>
              <p:nvPr/>
            </p:nvSpPr>
            <p:spPr>
              <a:xfrm>
                <a:off x="4224240" y="942840"/>
                <a:ext cx="608400" cy="2602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10200" y="952200"/>
                <a:ext cx="64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Volu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2" name=""/>
            <p:cNvCxnSpPr>
              <a:stCxn id="199" idx="3"/>
              <a:endCxn id="213" idx="0"/>
            </p:cNvCxnSpPr>
            <p:nvPr/>
          </p:nvCxnSpPr>
          <p:spPr>
            <a:xfrm>
              <a:off x="4851000" y="1066680"/>
              <a:ext cx="670680" cy="324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214" name=""/>
            <p:cNvGrpSpPr/>
            <p:nvPr/>
          </p:nvGrpSpPr>
          <p:grpSpPr>
            <a:xfrm>
              <a:off x="2909880" y="3041640"/>
              <a:ext cx="887040" cy="260280"/>
              <a:chOff x="2909880" y="3041640"/>
              <a:chExt cx="887040" cy="260280"/>
            </a:xfrm>
          </p:grpSpPr>
          <p:sp>
            <p:nvSpPr>
              <p:cNvPr id="215" name=""/>
              <p:cNvSpPr/>
              <p:nvPr/>
            </p:nvSpPr>
            <p:spPr>
              <a:xfrm>
                <a:off x="2929320" y="3041640"/>
                <a:ext cx="842040" cy="2602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909880" y="3051000"/>
                <a:ext cx="887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vest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213000" y="2389320"/>
              <a:ext cx="925200" cy="271440"/>
              <a:chOff x="3213000" y="2389320"/>
              <a:chExt cx="925200" cy="271440"/>
            </a:xfrm>
          </p:grpSpPr>
          <p:sp>
            <p:nvSpPr>
              <p:cNvPr id="190" name=""/>
              <p:cNvSpPr/>
              <p:nvPr/>
            </p:nvSpPr>
            <p:spPr>
              <a:xfrm>
                <a:off x="3250080" y="2389320"/>
                <a:ext cx="848160" cy="2714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13000" y="2411640"/>
                <a:ext cx="925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epreci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5221440" y="2152800"/>
              <a:ext cx="488880" cy="271440"/>
              <a:chOff x="5221440" y="2152800"/>
              <a:chExt cx="488880" cy="271440"/>
            </a:xfrm>
          </p:grpSpPr>
          <p:sp>
            <p:nvSpPr>
              <p:cNvPr id="218" name=""/>
              <p:cNvSpPr/>
              <p:nvPr/>
            </p:nvSpPr>
            <p:spPr>
              <a:xfrm>
                <a:off x="5240880" y="2152800"/>
                <a:ext cx="448200" cy="2714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21440" y="2175120"/>
                <a:ext cx="488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ax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626000" y="2532240"/>
              <a:ext cx="596880" cy="285480"/>
              <a:chOff x="4626000" y="2532240"/>
              <a:chExt cx="596880" cy="285480"/>
            </a:xfrm>
          </p:grpSpPr>
          <p:sp>
            <p:nvSpPr>
              <p:cNvPr id="220" name=""/>
              <p:cNvSpPr/>
              <p:nvPr/>
            </p:nvSpPr>
            <p:spPr>
              <a:xfrm>
                <a:off x="4649760" y="2532240"/>
                <a:ext cx="547560" cy="28548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626000" y="2555640"/>
                <a:ext cx="596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co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637160" y="3424320"/>
              <a:ext cx="1034640" cy="285480"/>
              <a:chOff x="4637160" y="3424320"/>
              <a:chExt cx="1034640" cy="285480"/>
            </a:xfrm>
          </p:grpSpPr>
          <p:sp>
            <p:nvSpPr>
              <p:cNvPr id="222" name=""/>
              <p:cNvSpPr/>
              <p:nvPr/>
            </p:nvSpPr>
            <p:spPr>
              <a:xfrm>
                <a:off x="4678560" y="3424320"/>
                <a:ext cx="948240" cy="28548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37160" y="3447720"/>
                <a:ext cx="1034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ee Cash Flo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3" name=""/>
            <p:cNvCxnSpPr>
              <a:stCxn id="215" idx="2"/>
              <a:endCxn id="207" idx="1"/>
            </p:cNvCxnSpPr>
            <p:nvPr/>
          </p:nvCxnSpPr>
          <p:spPr>
            <a:xfrm flipH="1" rot="16200000">
              <a:off x="3863880" y="2788560"/>
              <a:ext cx="261000" cy="1286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24" name=""/>
            <p:cNvCxnSpPr>
              <a:stCxn id="207" idx="3"/>
              <a:endCxn id="179" idx="1"/>
            </p:cNvCxnSpPr>
            <p:nvPr/>
          </p:nvCxnSpPr>
          <p:spPr>
            <a:xfrm flipV="1">
              <a:off x="5671800" y="3327120"/>
              <a:ext cx="361080" cy="235440"/>
            </a:xfrm>
            <a:prstGeom prst="curvedConnector5">
              <a:avLst>
                <a:gd name="adj1" fmla="val 49700"/>
                <a:gd name="adj2" fmla="val 49923"/>
                <a:gd name="adj3" fmla="val 49700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225" name=""/>
            <p:cNvGrpSpPr/>
            <p:nvPr/>
          </p:nvGrpSpPr>
          <p:grpSpPr>
            <a:xfrm>
              <a:off x="4564080" y="2970360"/>
              <a:ext cx="826560" cy="280440"/>
              <a:chOff x="4564080" y="2970360"/>
              <a:chExt cx="826560" cy="280440"/>
            </a:xfrm>
          </p:grpSpPr>
          <p:sp>
            <p:nvSpPr>
              <p:cNvPr id="206" name=""/>
              <p:cNvSpPr/>
              <p:nvPr/>
            </p:nvSpPr>
            <p:spPr>
              <a:xfrm>
                <a:off x="4597200" y="2970360"/>
                <a:ext cx="757800" cy="2804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64080" y="2993400"/>
                <a:ext cx="826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sh Flo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6" name=""/>
            <p:cNvCxnSpPr>
              <a:stCxn id="220" idx="2"/>
              <a:endCxn id="206" idx="0"/>
            </p:cNvCxnSpPr>
            <p:nvPr/>
          </p:nvCxnSpPr>
          <p:spPr>
            <a:xfrm flipH="1" rot="16200000">
              <a:off x="4873320" y="2867760"/>
              <a:ext cx="153360" cy="52920"/>
            </a:xfrm>
            <a:prstGeom prst="curvedConnector5">
              <a:avLst>
                <a:gd name="adj1" fmla="val 49882"/>
                <a:gd name="adj2" fmla="val 50000"/>
                <a:gd name="adj3" fmla="val 49882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27" name=""/>
            <p:cNvCxnSpPr>
              <a:stCxn id="218" idx="2"/>
              <a:endCxn id="192" idx="3"/>
            </p:cNvCxnSpPr>
            <p:nvPr/>
          </p:nvCxnSpPr>
          <p:spPr>
            <a:xfrm rot="5400000">
              <a:off x="5220720" y="2425320"/>
              <a:ext cx="246600" cy="243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228" name=""/>
            <p:cNvGrpSpPr/>
            <p:nvPr/>
          </p:nvGrpSpPr>
          <p:grpSpPr>
            <a:xfrm>
              <a:off x="5622840" y="2655720"/>
              <a:ext cx="968040" cy="260280"/>
              <a:chOff x="5622840" y="2655720"/>
              <a:chExt cx="968040" cy="260280"/>
            </a:xfrm>
          </p:grpSpPr>
          <p:sp>
            <p:nvSpPr>
              <p:cNvPr id="229" name=""/>
              <p:cNvSpPr/>
              <p:nvPr/>
            </p:nvSpPr>
            <p:spPr>
              <a:xfrm>
                <a:off x="5644080" y="2655720"/>
                <a:ext cx="919080" cy="2602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22840" y="2665080"/>
                <a:ext cx="968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iscount Rat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114880" y="1390680"/>
              <a:ext cx="815760" cy="271440"/>
              <a:chOff x="5114880" y="1390680"/>
              <a:chExt cx="815760" cy="271440"/>
            </a:xfrm>
          </p:grpSpPr>
          <p:sp>
            <p:nvSpPr>
              <p:cNvPr id="213" name=""/>
              <p:cNvSpPr/>
              <p:nvPr/>
            </p:nvSpPr>
            <p:spPr>
              <a:xfrm>
                <a:off x="5147640" y="1390680"/>
                <a:ext cx="747720" cy="2714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114880" y="1413000"/>
                <a:ext cx="815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evenu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992920" y="1809720"/>
              <a:ext cx="647640" cy="246240"/>
              <a:chOff x="5992920" y="1809720"/>
              <a:chExt cx="647640" cy="246240"/>
            </a:xfrm>
          </p:grpSpPr>
          <p:sp>
            <p:nvSpPr>
              <p:cNvPr id="197" name=""/>
              <p:cNvSpPr/>
              <p:nvPr/>
            </p:nvSpPr>
            <p:spPr>
              <a:xfrm>
                <a:off x="6043680" y="1809720"/>
                <a:ext cx="544680" cy="246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dbdb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992920" y="1820880"/>
                <a:ext cx="647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ax Rat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563920" y="1022400"/>
              <a:ext cx="1218240" cy="260280"/>
              <a:chOff x="2563920" y="1022400"/>
              <a:chExt cx="1218240" cy="260280"/>
            </a:xfrm>
          </p:grpSpPr>
          <p:sp>
            <p:nvSpPr>
              <p:cNvPr id="234" name=""/>
              <p:cNvSpPr/>
              <p:nvPr/>
            </p:nvSpPr>
            <p:spPr>
              <a:xfrm>
                <a:off x="2590560" y="1022400"/>
                <a:ext cx="1156680" cy="2602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63920" y="1031760"/>
                <a:ext cx="1218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Variable Unit Cos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801880" y="1949400"/>
              <a:ext cx="873000" cy="260280"/>
              <a:chOff x="2801880" y="1949400"/>
              <a:chExt cx="873000" cy="260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820960" y="1949400"/>
                <a:ext cx="828720" cy="2602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01880" y="1958760"/>
                <a:ext cx="873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ixed Cos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9" name=""/>
            <p:cNvCxnSpPr>
              <a:stCxn id="238" idx="3"/>
              <a:endCxn id="184" idx="1"/>
            </p:cNvCxnSpPr>
            <p:nvPr/>
          </p:nvCxnSpPr>
          <p:spPr>
            <a:xfrm flipV="1">
              <a:off x="3674880" y="2015280"/>
              <a:ext cx="565560" cy="579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40" name=""/>
            <p:cNvCxnSpPr>
              <a:stCxn id="200" idx="3"/>
              <a:endCxn id="183" idx="0"/>
            </p:cNvCxnSpPr>
            <p:nvPr/>
          </p:nvCxnSpPr>
          <p:spPr>
            <a:xfrm>
              <a:off x="4352760" y="1630440"/>
              <a:ext cx="146880" cy="249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241" name=""/>
            <p:cNvGrpSpPr/>
            <p:nvPr/>
          </p:nvGrpSpPr>
          <p:grpSpPr>
            <a:xfrm>
              <a:off x="3357720" y="1494000"/>
              <a:ext cx="994680" cy="271440"/>
              <a:chOff x="3357720" y="1494000"/>
              <a:chExt cx="994680" cy="271440"/>
            </a:xfrm>
          </p:grpSpPr>
          <p:sp>
            <p:nvSpPr>
              <p:cNvPr id="242" name=""/>
              <p:cNvSpPr/>
              <p:nvPr/>
            </p:nvSpPr>
            <p:spPr>
              <a:xfrm>
                <a:off x="3397680" y="1494000"/>
                <a:ext cx="911880" cy="2714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57720" y="1516320"/>
                <a:ext cx="99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Variable Cos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3" name=""/>
            <p:cNvCxnSpPr>
              <a:stCxn id="235" idx="2"/>
              <a:endCxn id="200" idx="1"/>
            </p:cNvCxnSpPr>
            <p:nvPr/>
          </p:nvCxnSpPr>
          <p:spPr>
            <a:xfrm flipH="1" rot="16200000">
              <a:off x="3080520" y="1352880"/>
              <a:ext cx="370800" cy="185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2965320" y="4052880"/>
              <a:ext cx="909360" cy="200520"/>
              <a:chOff x="2965320" y="4052880"/>
              <a:chExt cx="909360" cy="200520"/>
            </a:xfrm>
          </p:grpSpPr>
          <p:sp>
            <p:nvSpPr>
              <p:cNvPr id="245" name=""/>
              <p:cNvSpPr/>
              <p:nvPr/>
            </p:nvSpPr>
            <p:spPr>
              <a:xfrm>
                <a:off x="2965320" y="4076640"/>
                <a:ext cx="27936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98600" y="405288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cul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836880" y="4052880"/>
              <a:ext cx="911160" cy="200520"/>
              <a:chOff x="3836880" y="4052880"/>
              <a:chExt cx="911160" cy="200520"/>
            </a:xfrm>
          </p:grpSpPr>
          <p:sp>
            <p:nvSpPr>
              <p:cNvPr id="248" name=""/>
              <p:cNvSpPr/>
              <p:nvPr/>
            </p:nvSpPr>
            <p:spPr>
              <a:xfrm>
                <a:off x="3836880" y="4075200"/>
                <a:ext cx="277560" cy="1540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71600" y="405288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certaint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708440" y="4052880"/>
              <a:ext cx="847800" cy="200520"/>
              <a:chOff x="4708440" y="4052880"/>
              <a:chExt cx="847800" cy="200520"/>
            </a:xfrm>
          </p:grpSpPr>
          <p:sp>
            <p:nvSpPr>
              <p:cNvPr id="251" name=""/>
              <p:cNvSpPr/>
              <p:nvPr/>
            </p:nvSpPr>
            <p:spPr>
              <a:xfrm>
                <a:off x="4708440" y="4073400"/>
                <a:ext cx="265320" cy="156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dbdb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0160" y="405288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518080" y="4062240"/>
              <a:ext cx="825480" cy="200520"/>
              <a:chOff x="5518080" y="4062240"/>
              <a:chExt cx="825480" cy="200520"/>
            </a:xfrm>
          </p:grpSpPr>
          <p:sp>
            <p:nvSpPr>
              <p:cNvPr id="254" name=""/>
              <p:cNvSpPr/>
              <p:nvPr/>
            </p:nvSpPr>
            <p:spPr>
              <a:xfrm>
                <a:off x="5518080" y="4086000"/>
                <a:ext cx="26820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667120" y="406224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riter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0" y="3427560"/>
            <a:ext cx="4448160" cy="3430440"/>
            <a:chOff x="0" y="3427560"/>
            <a:chExt cx="4448160" cy="3430440"/>
          </a:xfrm>
        </p:grpSpPr>
        <p:sp>
          <p:nvSpPr>
            <p:cNvPr id="257" name=""/>
            <p:cNvSpPr/>
            <p:nvPr/>
          </p:nvSpPr>
          <p:spPr>
            <a:xfrm>
              <a:off x="0" y="3427560"/>
              <a:ext cx="4448160" cy="343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3040" y="3621240"/>
              <a:ext cx="3419280" cy="2590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4880" y="621180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4880" y="57783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4880" y="53452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4880" y="492120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4880" y="44877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4880" y="40543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4880" y="36212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43040" y="62118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314360" y="62118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886040" y="62118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457360" y="62118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019320" y="62118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591000" y="62118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4162320" y="62118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14360" y="4727520"/>
              <a:ext cx="28584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00200" y="4792680"/>
              <a:ext cx="2858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86040" y="4856040"/>
              <a:ext cx="28584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71880" y="4921200"/>
              <a:ext cx="28548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57360" y="4986360"/>
              <a:ext cx="27648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33840" y="5041800"/>
              <a:ext cx="28548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19320" y="5095800"/>
              <a:ext cx="2858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05160" y="5151600"/>
              <a:ext cx="28584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1314360" y="5880240"/>
              <a:ext cx="2858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1600200" y="5576400"/>
              <a:ext cx="28584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886040" y="5281560"/>
              <a:ext cx="2858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171880" y="4986360"/>
              <a:ext cx="28548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457360" y="4691160"/>
              <a:ext cx="27648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733840" y="4385880"/>
              <a:ext cx="2854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019320" y="4091040"/>
              <a:ext cx="2858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305160" y="3795840"/>
              <a:ext cx="28584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1314360" y="5613480"/>
              <a:ext cx="2858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600200" y="5400360"/>
              <a:ext cx="28584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886040" y="5189040"/>
              <a:ext cx="28584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171880" y="4986360"/>
              <a:ext cx="285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457360" y="4773240"/>
              <a:ext cx="2764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2733840" y="4570560"/>
              <a:ext cx="285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019320" y="4358880"/>
              <a:ext cx="28584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305160" y="4146120"/>
              <a:ext cx="28584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14360" y="4802040"/>
              <a:ext cx="2858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00200" y="4848120"/>
              <a:ext cx="2858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86040" y="4894200"/>
              <a:ext cx="2858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71880" y="4940280"/>
              <a:ext cx="28548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57360" y="4986360"/>
              <a:ext cx="27648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33840" y="5032440"/>
              <a:ext cx="28548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19320" y="5078520"/>
              <a:ext cx="2858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05160" y="5124600"/>
              <a:ext cx="28584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14360" y="4626000"/>
              <a:ext cx="2858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00200" y="4718160"/>
              <a:ext cx="28584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86040" y="4802040"/>
              <a:ext cx="2858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1880" y="4894200"/>
              <a:ext cx="28548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57360" y="4986360"/>
              <a:ext cx="27648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33840" y="5078520"/>
              <a:ext cx="28548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9320" y="5160960"/>
              <a:ext cx="2858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05160" y="5253120"/>
              <a:ext cx="2858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14360" y="4718160"/>
              <a:ext cx="28584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00200" y="4782960"/>
              <a:ext cx="28584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86040" y="4848120"/>
              <a:ext cx="2858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71880" y="4921200"/>
              <a:ext cx="28548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57360" y="4986360"/>
              <a:ext cx="276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33840" y="5049720"/>
              <a:ext cx="28548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19320" y="5114880"/>
              <a:ext cx="2858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05160" y="5189400"/>
              <a:ext cx="28584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95280" y="4708440"/>
              <a:ext cx="3816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1120" y="4773600"/>
              <a:ext cx="38160" cy="3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6960" y="4838760"/>
              <a:ext cx="38160" cy="3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52800" y="4902120"/>
              <a:ext cx="3780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38280" y="4967280"/>
              <a:ext cx="38160" cy="3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14760" y="5022720"/>
              <a:ext cx="3780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00240" y="5078520"/>
              <a:ext cx="38160" cy="3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86080" y="5133960"/>
              <a:ext cx="38160" cy="3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71920" y="5180040"/>
              <a:ext cx="38160" cy="3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76200" y="6138720"/>
              <a:ext cx="954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1285560" y="61480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14360" y="617544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285560" y="617544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314360" y="614808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62040" y="5843520"/>
              <a:ext cx="954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1571400" y="58528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00200" y="588024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1571400" y="588024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1600200" y="58528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47880" y="5538960"/>
              <a:ext cx="95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1857240" y="554796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86040" y="557676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1857240" y="557676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886040" y="554796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5243400"/>
              <a:ext cx="950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2143080" y="525276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71880" y="528156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143080" y="528156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2171880" y="525276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19200" y="4950000"/>
              <a:ext cx="95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2428560" y="495756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57360" y="498636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428560" y="498636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457360" y="495756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95680" y="4654440"/>
              <a:ext cx="950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2705040" y="4662360"/>
              <a:ext cx="28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33840" y="469116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2705040" y="469116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2733840" y="4662360"/>
              <a:ext cx="28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81160" y="4349880"/>
              <a:ext cx="95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2990520" y="43588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19320" y="438624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990520" y="438624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019320" y="435888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67000" y="4054320"/>
              <a:ext cx="954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3276360" y="40636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05160" y="409104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276360" y="409104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305160" y="40636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52840" y="3759120"/>
              <a:ext cx="954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3562200" y="376848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91000" y="379584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3562200" y="379584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591000" y="376848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95280" y="5797440"/>
              <a:ext cx="381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81120" y="5594400"/>
              <a:ext cx="381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66960" y="5383080"/>
              <a:ext cx="381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52800" y="5170320"/>
              <a:ext cx="3780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4967280"/>
              <a:ext cx="381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14760" y="4756320"/>
              <a:ext cx="3780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00240" y="4552920"/>
              <a:ext cx="381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86080" y="4340160"/>
              <a:ext cx="381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71920" y="4127400"/>
              <a:ext cx="381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14360" y="4792680"/>
              <a:ext cx="38160" cy="17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00200" y="4838760"/>
              <a:ext cx="38160" cy="17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86040" y="4884840"/>
              <a:ext cx="38160" cy="17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71880" y="4930920"/>
              <a:ext cx="3780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57360" y="4976640"/>
              <a:ext cx="381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3840" y="5022720"/>
              <a:ext cx="3780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19320" y="5068800"/>
              <a:ext cx="381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05160" y="5114880"/>
              <a:ext cx="381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91000" y="5160960"/>
              <a:ext cx="381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5280" y="460836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81120" y="470052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66960" y="478296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52800" y="487512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38280" y="496728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14760" y="5059440"/>
              <a:ext cx="378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00240" y="514368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86080" y="523548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71920" y="532764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95280" y="470052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81120" y="47642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66960" y="482904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52800" y="49021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38280" y="496728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14760" y="5032440"/>
              <a:ext cx="378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00240" y="5095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86080" y="517032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71920" y="523548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0680" y="6138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7120" y="5705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0160" y="5272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0160" y="4848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0160" y="4414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160" y="39816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0160" y="35481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9760" y="63133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71080" y="63133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42760" y="63133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71320" y="63133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94760" y="6313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66440" y="6313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37760" y="6313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5440" y="6526080"/>
              <a:ext cx="156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% Change from base c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2840" y="4823640"/>
              <a:ext cx="39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38400" y="5521320"/>
              <a:ext cx="2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43160" y="5502240"/>
              <a:ext cx="3816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23880" y="5456160"/>
              <a:ext cx="642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38400" y="5640480"/>
              <a:ext cx="2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24080" y="5603760"/>
              <a:ext cx="954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3133440" y="5613120"/>
              <a:ext cx="28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62240" y="564048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3133440" y="564048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3162240" y="5613120"/>
              <a:ext cx="28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23160" y="557676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38400" y="577044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43160" y="5751360"/>
              <a:ext cx="381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23880" y="5705640"/>
              <a:ext cx="346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38400" y="5889600"/>
              <a:ext cx="2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62240" y="5880240"/>
              <a:ext cx="381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22440" y="5824440"/>
              <a:ext cx="54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xed Cos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38400" y="6018120"/>
              <a:ext cx="257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43160" y="600084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12"/>
                  </a:lnTo>
                  <a:lnTo>
                    <a:pt x="12" y="24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23520" y="5954760"/>
              <a:ext cx="665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ariable Cos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38400" y="6138720"/>
              <a:ext cx="257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43160" y="6119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4240" y="607392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3427560"/>
              <a:ext cx="4448160" cy="3430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0" y="246240"/>
            <a:ext cx="3533760" cy="3240000"/>
            <a:chOff x="0" y="246240"/>
            <a:chExt cx="3533760" cy="3240000"/>
          </a:xfrm>
        </p:grpSpPr>
        <p:sp>
          <p:nvSpPr>
            <p:cNvPr id="451" name=""/>
            <p:cNvSpPr/>
            <p:nvPr/>
          </p:nvSpPr>
          <p:spPr>
            <a:xfrm>
              <a:off x="0" y="246240"/>
              <a:ext cx="3533760" cy="32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25480" y="1106640"/>
              <a:ext cx="130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31960" y="110952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1084320" y="110952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1339920" y="110952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596600" y="110952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1852200" y="110952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107800" y="110952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58680" y="110952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212840" y="110952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69880" y="110952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27280" y="110952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1979640" y="110952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684720" y="848880"/>
              <a:ext cx="254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5400000">
              <a:off x="937800" y="848880"/>
              <a:ext cx="254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5400000">
              <a:off x="1147320" y="806040"/>
              <a:ext cx="33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5400000">
              <a:off x="1399320" y="806040"/>
              <a:ext cx="33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5400000">
              <a:off x="1651680" y="806040"/>
              <a:ext cx="33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5400000">
              <a:off x="1906200" y="806040"/>
              <a:ext cx="33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382760" y="48276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5400000">
              <a:off x="1407240" y="2259720"/>
              <a:ext cx="187200" cy="201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5400000">
              <a:off x="1387800" y="1278720"/>
              <a:ext cx="187200" cy="617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5400000">
              <a:off x="1389240" y="890640"/>
              <a:ext cx="188640" cy="8841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5400000">
              <a:off x="1387800" y="2550240"/>
              <a:ext cx="187560" cy="135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5400000">
              <a:off x="1387800" y="1711800"/>
              <a:ext cx="187200" cy="26532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5400000">
              <a:off x="1387800" y="2004120"/>
              <a:ext cx="187200" cy="198360"/>
            </a:xfrm>
            <a:prstGeom prst="rect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25960" y="2381400"/>
              <a:ext cx="72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27760" y="1600200"/>
              <a:ext cx="38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27760" y="134136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26320" y="264168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xed Cos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25600" y="1860480"/>
              <a:ext cx="95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Unit  Co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26680" y="21207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1480680" y="1106640"/>
              <a:ext cx="180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49480" y="28591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se C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4110120" y="1011240"/>
            <a:ext cx="3533760" cy="3240000"/>
            <a:chOff x="4110120" y="1011240"/>
            <a:chExt cx="3533760" cy="3240000"/>
          </a:xfrm>
        </p:grpSpPr>
        <p:sp>
          <p:nvSpPr>
            <p:cNvPr id="486" name=""/>
            <p:cNvSpPr/>
            <p:nvPr/>
          </p:nvSpPr>
          <p:spPr>
            <a:xfrm>
              <a:off x="4110120" y="1011240"/>
              <a:ext cx="3533760" cy="32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82080" y="2055960"/>
              <a:ext cx="72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83880" y="2827440"/>
              <a:ext cx="38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83880" y="30844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82440" y="1800360"/>
              <a:ext cx="60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xed Cos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81720" y="2570040"/>
              <a:ext cx="95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Unit  Co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82800" y="231300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959000" y="3422520"/>
              <a:ext cx="130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6257880" y="338436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6002280" y="338436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746680" y="338436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489640" y="338436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5234040" y="338436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4978440" y="338436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130800" y="338436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5873760" y="338436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619600" y="338436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5362560" y="3384360"/>
              <a:ext cx="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5106960" y="3384360"/>
              <a:ext cx="14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6200000">
              <a:off x="6161400" y="353916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6200000">
              <a:off x="5909040" y="3539160"/>
              <a:ext cx="25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6200000">
              <a:off x="5613840" y="3582000"/>
              <a:ext cx="3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6200000">
              <a:off x="5361480" y="3582000"/>
              <a:ext cx="3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5109120" y="3582000"/>
              <a:ext cx="3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4854960" y="3582000"/>
              <a:ext cx="3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46800" y="382752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6200000">
              <a:off x="5505480" y="2077920"/>
              <a:ext cx="187200" cy="174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5509080" y="2629080"/>
              <a:ext cx="187560" cy="6177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6200000">
              <a:off x="5509440" y="2753640"/>
              <a:ext cx="187200" cy="8841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5509440" y="1840320"/>
              <a:ext cx="187560" cy="1350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5509440" y="2548800"/>
              <a:ext cx="187200" cy="2649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6200000">
              <a:off x="5509440" y="2323080"/>
              <a:ext cx="187200" cy="1983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7575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5605560" y="1670040"/>
              <a:ext cx="144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54560" y="13050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se C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006800" y="2108160"/>
            <a:ext cx="3314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06800" y="2108160"/>
            <a:ext cx="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06800" y="2108160"/>
            <a:ext cx="33148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06800" y="2108160"/>
            <a:ext cx="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006800" y="2108160"/>
            <a:ext cx="33148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523880" y="1889280"/>
            <a:ext cx="4564080" cy="4082760"/>
            <a:chOff x="1523880" y="1889280"/>
            <a:chExt cx="4564080" cy="4082760"/>
          </a:xfrm>
        </p:grpSpPr>
        <p:sp>
          <p:nvSpPr>
            <p:cNvPr id="526" name=""/>
            <p:cNvSpPr/>
            <p:nvPr/>
          </p:nvSpPr>
          <p:spPr>
            <a:xfrm>
              <a:off x="2041200" y="2876760"/>
              <a:ext cx="9720" cy="18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79280" y="401976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12" y="0"/>
                  </a:moveTo>
                  <a:lnTo>
                    <a:pt x="24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84280" y="5334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384280" y="5343480"/>
              <a:ext cx="28440" cy="97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6" y="0"/>
                  </a:moveTo>
                  <a:lnTo>
                    <a:pt x="18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12640" y="5343480"/>
              <a:ext cx="28800" cy="972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6" y="0"/>
                  </a:moveTo>
                  <a:lnTo>
                    <a:pt x="18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23880" y="1889280"/>
              <a:ext cx="4564080" cy="408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01560" y="2135160"/>
              <a:ext cx="3303720" cy="3151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70960" y="5369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33240" y="5369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85440" y="5369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75800" y="5369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06240" y="4699080"/>
              <a:ext cx="820800" cy="58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03360" y="4140360"/>
              <a:ext cx="1677960" cy="11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406240" y="3611520"/>
              <a:ext cx="2509920" cy="166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403360" y="3040200"/>
              <a:ext cx="3301920" cy="22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04800" y="2475000"/>
              <a:ext cx="3301920" cy="225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06480" y="2133720"/>
              <a:ext cx="2995560" cy="20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506400" y="2133720"/>
              <a:ext cx="2195640" cy="14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31880" y="2138400"/>
              <a:ext cx="137016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89400" y="2139840"/>
              <a:ext cx="512640" cy="3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12200" y="5186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12200" y="4691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134440" y="4195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34440" y="3700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134440" y="3205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134440" y="2700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34440" y="2205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263760" y="5578560"/>
              <a:ext cx="1471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Cost (US c/lb p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6200000">
              <a:off x="1148400" y="3753360"/>
              <a:ext cx="146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ting Cost (US c/l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58760" y="215748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58880" y="2462400"/>
              <a:ext cx="46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31640" y="2760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58760" y="3127320"/>
              <a:ext cx="3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41240" y="34988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50640" y="3827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66520" y="41259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49000" y="448488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35280" y="3921120"/>
              <a:ext cx="447480" cy="371520"/>
            </a:xfrm>
            <a:prstGeom prst="roundRect">
              <a:avLst>
                <a:gd name="adj" fmla="val 20514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54080" y="3497400"/>
              <a:ext cx="447840" cy="371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6280" y="4380120"/>
              <a:ext cx="96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yrom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96880" y="3935520"/>
              <a:ext cx="113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ydrom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438800" y="557280"/>
            <a:ext cx="44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71520" y="1174680"/>
            <a:ext cx="6970680" cy="3465720"/>
            <a:chOff x="1271520" y="1174680"/>
            <a:chExt cx="6970680" cy="3465720"/>
          </a:xfrm>
        </p:grpSpPr>
        <p:sp>
          <p:nvSpPr>
            <p:cNvPr id="569" name=""/>
            <p:cNvSpPr/>
            <p:nvPr/>
          </p:nvSpPr>
          <p:spPr>
            <a:xfrm>
              <a:off x="1271520" y="1174680"/>
              <a:ext cx="6958080" cy="346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48120" y="3328920"/>
              <a:ext cx="3394080" cy="10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actor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ther to drill appraisal well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 reservoi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hods of appraisa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hods of process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54600" y="2751120"/>
              <a:ext cx="313200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ree to term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deal and drill exploration wel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619280" y="1371600"/>
              <a:ext cx="3009960" cy="2927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57400" y="34210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25760" y="2543040"/>
              <a:ext cx="118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324160" y="20541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324160" y="29322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24160" y="38116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42000" y="1938240"/>
              <a:ext cx="326052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PV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s the measure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06880" y="1814400"/>
              <a:ext cx="585720" cy="560520"/>
            </a:xfrm>
            <a:prstGeom prst="rightArrow">
              <a:avLst>
                <a:gd name="adj1" fmla="val 50139"/>
                <a:gd name="adj2" fmla="val 4786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ab2c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06880" y="2719440"/>
              <a:ext cx="585720" cy="560160"/>
            </a:xfrm>
            <a:prstGeom prst="rightArrow">
              <a:avLst>
                <a:gd name="adj1" fmla="val 50139"/>
                <a:gd name="adj2" fmla="val 4789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ab2c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06880" y="3576600"/>
              <a:ext cx="585720" cy="560520"/>
            </a:xfrm>
            <a:prstGeom prst="rightArrow">
              <a:avLst>
                <a:gd name="adj1" fmla="val 50139"/>
                <a:gd name="adj2" fmla="val 4786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ab2c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7:05:18Z</dcterms:created>
  <dc:creator>Frank</dc:creator>
  <dc:description/>
  <dc:language>en-US</dc:language>
  <cp:lastModifiedBy>frank crundwell</cp:lastModifiedBy>
  <dcterms:modified xsi:type="dcterms:W3CDTF">2007-08-16T16:51:10Z</dcterms:modified>
  <cp:revision>18</cp:revision>
  <dc:subject/>
  <dc:title>PowerPoint Presentation</dc:title>
</cp:coreProperties>
</file>